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2F0-1F4F-4E7F-A5B1-1444CC90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ABA-073E-4852-A9A3-FFC910E3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745-85AF-4C5C-AE7F-0818CF6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F87-EF08-43DF-B201-8CD43DFE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BAA-1328-4DF8-A001-0D17E0C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D3F-69E8-4415-B202-D07BED5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31A-F0B9-4934-AA07-45FB981E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BEA-5A4A-42E6-8506-DC4ABCA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BAA-17BB-40FC-8183-DF8E01C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C0F-F757-486C-9CE8-7405CB8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806-2F4D-4D3D-8A6C-9492525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FE2-BEC4-42D0-8F09-97935CB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02FD-92C0-4F9A-83EC-11832FE12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601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5228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066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121932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3048120"/>
            <a:ext cx="2514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5720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276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2971800"/>
            <a:ext cx="1676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213336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114800"/>
            <a:ext cx="31240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800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724280"/>
            <a:ext cx="22860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2:49:48Z</dcterms:created>
  <dc:creator>testteacher</dc:creator>
  <dc:description/>
  <dc:language>en-US</dc:language>
  <cp:lastModifiedBy>testteacher</cp:lastModifiedBy>
  <dcterms:modified xsi:type="dcterms:W3CDTF">2008-10-10T12:58:41Z</dcterms:modified>
  <cp:revision>1</cp:revision>
  <dc:subject/>
  <dc:title>Slide 1</dc:title>
</cp:coreProperties>
</file>